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53B-D0DA-42E5-B51D-F86BEA8F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AE8-F1C3-46DC-B906-C63C1B59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813-671A-44E5-9CB6-6A320F62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4CE-8AC0-4FBC-A34A-43B859C5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6DFD-3909-4991-919D-E53E6B06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5A38-3007-4C76-B06C-DF59F6E0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2E79-BE8C-4BAF-8DE0-63D1FFD3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ABC0-3434-4E15-9AF5-46204CB6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4233-1CF9-41D7-A52F-F7598A4E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977B-9A84-4673-A6C5-B5A293C9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50A6-815F-4EE6-8634-EDD443DE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D3E-290E-43BD-8A28-B924D694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74AB-6677-4B7F-9933-C8C315C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9173-6841-4DB4-8739-81B3BD73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B59C-0217-4F2C-A518-31A70C28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705D-19EF-4A9A-84B4-BEB7C956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9692-23B0-480C-BA3A-0DE8AD5C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93E-F59F-429D-ABAD-E09A045C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CD5-A504-44C7-9B23-3A59B897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FB4-E28E-47F4-9919-BAE70139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3C4-EC61-4DFA-B724-92C5ABA0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44E-66F3-428D-9728-14BAD2CD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A05-7270-41A0-8214-43B7D5A3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C28-DE96-444B-8724-5E9734F6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696D-2112-4867-9A07-1F8A87078F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792C-10C2-4BE1-B0DF-6BDB900E74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7640" y="301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Me llamo __________        Clase 8 IM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la fecha es el 21 de marzo del 2011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0066"/>
                </a:solidFill>
                <a:latin typeface="Verdana"/>
              </a:rPr>
              <a:t>Propósito # 48:</a:t>
            </a:r>
            <a:r>
              <a:rPr b="0" lang="es-ES_tradnl" sz="2900" spc="-1" strike="noStrike">
                <a:solidFill>
                  <a:srgbClr val="333366"/>
                </a:solidFill>
                <a:latin typeface="Verdana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uál es tu restaurante favorit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0066"/>
                </a:solidFill>
                <a:latin typeface="Verdana"/>
              </a:rPr>
              <a:t>Actividad In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scritura en silenci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Que diferencias hay entre comer en casa y comer en un restaurant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152280"/>
            <a:ext cx="73134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Ejercicios: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Ejercicio 8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p. 13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Comunicacion 9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p. 13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p. 4.1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522440" y="3279600"/>
            <a:ext cx="73137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Tarea # 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20:01:16Z</dcterms:created>
  <dc:creator>Helen Zumaeta</dc:creator>
  <dc:description/>
  <dc:language>en-US</dc:language>
  <cp:lastModifiedBy>Helen Zumaeta</cp:lastModifiedBy>
  <dcterms:modified xsi:type="dcterms:W3CDTF">2011-03-21T19:21:58Z</dcterms:modified>
  <cp:revision>3</cp:revision>
  <dc:subject/>
  <dc:title>Me llamo __________ Clase 8 IM la fecha es el 17 de marzo</dc:title>
</cp:coreProperties>
</file>